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93588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6FE3-C7F2-492B-B89E-EDDBA7BF3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4E76-67DE-45D5-9B16-67FFBFB5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C51C-80C3-4222-B184-9D4F02E88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9034-9D09-4B9A-B368-9DE67A85F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ACF0-08D8-40DD-82B7-6CE05ED5C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E45E-ED90-493C-BAFA-1328A15B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A095-5958-478A-AFD3-75D037CC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D1B5-E9DC-4DCA-9C6D-160CEA53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7192-84EA-4A44-A3DD-91857AA1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36519-2769-42E4-9F48-257577A2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4032-F9AF-4B42-A43F-A4E45D1D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C048-6893-407F-BD7E-AC8AA4B9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626B-D9F3-47B2-8411-DC11062C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E91D-6CC6-4122-94DA-61F280CC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84D0-C08F-4330-B313-4C45A8F8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E168F-B43A-48B9-AA6B-3E10678F0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53C3-D964-4AFC-917C-E1D330BB8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B7FD-F1F2-4A16-BE8D-A21F2DBE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9D81-704F-4936-97AD-24E4E343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3EED-B3A1-4A02-A808-025674CF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0EBA-CE0E-4E3A-86B8-2B796D73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8D5B-521C-4A98-97B3-19FD2E67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00FB-863B-403C-BF4A-2962BB12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0510-A5DD-4588-9315-386EADCB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47DB-AB40-4744-90E9-936C2677275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CF6A-66C5-4F58-BBE0-C3FFCDC7802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2"/>
          <p:cNvSpPr/>
          <p:nvPr/>
        </p:nvSpPr>
        <p:spPr>
          <a:xfrm>
            <a:off x="1619280" y="12142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Группа 27"/>
          <p:cNvGrpSpPr/>
          <p:nvPr/>
        </p:nvGrpSpPr>
        <p:grpSpPr>
          <a:xfrm>
            <a:off x="2017800" y="404640"/>
            <a:ext cx="8542080" cy="216000"/>
            <a:chOff x="2017800" y="404640"/>
            <a:chExt cx="8542080" cy="216000"/>
          </a:xfrm>
        </p:grpSpPr>
        <p:sp>
          <p:nvSpPr>
            <p:cNvPr id="84" name="Прямоугольник 28"/>
            <p:cNvSpPr/>
            <p:nvPr/>
          </p:nvSpPr>
          <p:spPr>
            <a:xfrm flipV="1">
              <a:off x="2017800" y="404280"/>
              <a:ext cx="8542080" cy="84240"/>
            </a:xfrm>
            <a:prstGeom prst="rect">
              <a:avLst/>
            </a:prstGeom>
            <a:solidFill>
              <a:srgbClr val="f79646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Прямая соединительная линия 29"/>
            <p:cNvSpPr/>
            <p:nvPr/>
          </p:nvSpPr>
          <p:spPr>
            <a:xfrm flipV="1">
              <a:off x="2017800" y="617760"/>
              <a:ext cx="8542080" cy="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Прямоугольник 14"/>
          <p:cNvSpPr/>
          <p:nvPr/>
        </p:nvSpPr>
        <p:spPr>
          <a:xfrm>
            <a:off x="5604120" y="630864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84126"/>
                </a:solidFill>
                <a:latin typeface="Century"/>
                <a:ea typeface="Arial"/>
              </a:rPr>
              <a:t>2023 г.</a:t>
            </a:r>
            <a:r>
              <a:rPr b="1" lang="ru-RU" sz="1400" spc="-1" strike="noStrike">
                <a:solidFill>
                  <a:srgbClr val="c84126"/>
                </a:solidFill>
                <a:latin typeface="Century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5"/>
          <p:cNvSpPr/>
          <p:nvPr/>
        </p:nvSpPr>
        <p:spPr>
          <a:xfrm>
            <a:off x="3434400" y="4365720"/>
            <a:ext cx="5240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84126"/>
                </a:solidFill>
                <a:latin typeface="Century"/>
                <a:ea typeface="Arial"/>
              </a:rPr>
              <a:t>г. Кызы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84126"/>
                </a:solidFill>
                <a:latin typeface="Century"/>
                <a:ea typeface="Arial"/>
              </a:rPr>
              <a:t>ул. Тувинских добровольцев, 18, оф. 2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84126"/>
                </a:solidFill>
                <a:latin typeface="Century"/>
                <a:ea typeface="Arial"/>
              </a:rPr>
              <a:t>8 (394) 223-20-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84126"/>
                </a:solidFill>
                <a:latin typeface="Century"/>
                <a:ea typeface="Arial"/>
              </a:rPr>
              <a:t>8 (901) 923-20-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4126"/>
                </a:solidFill>
                <a:latin typeface="Century"/>
                <a:ea typeface="Arial"/>
              </a:rPr>
              <a:t>E-mail</a:t>
            </a:r>
            <a:r>
              <a:rPr b="0" lang="ru-RU" sz="2000" spc="-1" strike="noStrike">
                <a:solidFill>
                  <a:srgbClr val="c84126"/>
                </a:solidFill>
                <a:latin typeface="Century"/>
                <a:ea typeface="Arial"/>
              </a:rPr>
              <a:t>: </a:t>
            </a:r>
            <a:r>
              <a:rPr b="0" lang="en-US" sz="2000" spc="-1" strike="noStrike">
                <a:solidFill>
                  <a:srgbClr val="c84126"/>
                </a:solidFill>
                <a:latin typeface="Century"/>
                <a:ea typeface="Arial"/>
              </a:rPr>
              <a:t>gf_tyva@mail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84126"/>
                </a:solidFill>
                <a:latin typeface="Century"/>
                <a:ea typeface="Arial"/>
              </a:rPr>
              <a:t>Сайт: </a:t>
            </a:r>
            <a:r>
              <a:rPr b="0" lang="en-US" sz="2000" spc="-1" strike="noStrike">
                <a:solidFill>
                  <a:srgbClr val="c84126"/>
                </a:solidFill>
                <a:latin typeface="Century"/>
                <a:ea typeface="Arial"/>
              </a:rPr>
              <a:t>garantfondtuva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2"/>
          <p:cNvSpPr/>
          <p:nvPr/>
        </p:nvSpPr>
        <p:spPr>
          <a:xfrm>
            <a:off x="1539720" y="1584360"/>
            <a:ext cx="9496440" cy="141300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1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otham Pro"/>
                <a:ea typeface="Gotham Pro"/>
              </a:rPr>
              <a:t>ПОРУЧИТЕЛЬСТВО ГАРАНТИЙНОГО ФОН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otham Pro"/>
                <a:ea typeface="Gotham Pro"/>
              </a:rPr>
              <a:t>РЕСПУБЛИКИ ТЫ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otham Pro"/>
                <a:ea typeface="Gotham Pro"/>
              </a:rPr>
              <a:t>(Региональная гарантийная организация – далее «РГО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5"/>
          <p:cNvSpPr/>
          <p:nvPr/>
        </p:nvSpPr>
        <p:spPr>
          <a:xfrm>
            <a:off x="0" y="357120"/>
            <a:ext cx="7032600" cy="76824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1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otham Pro"/>
                <a:ea typeface="Gotham Pro"/>
              </a:rPr>
              <a:t>ПОКАЗАТЕЛИ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7" descr=""/>
          <p:cNvPicPr/>
          <p:nvPr/>
        </p:nvPicPr>
        <p:blipFill>
          <a:blip r:embed="rId1"/>
          <a:stretch/>
        </p:blipFill>
        <p:spPr>
          <a:xfrm>
            <a:off x="7175520" y="189000"/>
            <a:ext cx="4656240" cy="172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192240" y="1628640"/>
          <a:ext cx="11737800" cy="4946760"/>
        </p:xfrm>
        <a:graphic>
          <a:graphicData uri="http://schemas.openxmlformats.org/drawingml/2006/table">
            <a:tbl>
              <a:tblPr/>
              <a:tblGrid>
                <a:gridCol w="1295280"/>
                <a:gridCol w="1596960"/>
                <a:gridCol w="1643040"/>
                <a:gridCol w="1152720"/>
                <a:gridCol w="1541160"/>
                <a:gridCol w="1554480"/>
                <a:gridCol w="1223640"/>
                <a:gridCol w="1730520"/>
              </a:tblGrid>
              <a:tr h="164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480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арантийный капитал РГО, (тыс. руб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480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йствующий портфель поручительства, (тыс. руб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480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ультиплика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480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гнозный объем выданных поручительств (план), (тыс. руб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480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ъем выданных поручительств (факт), (тыс. руб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480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выполнения годового пл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480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блюдение РГО критериев аккредитации, согласно оценки проведенной АО Корпорации МС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4807"/>
                    </a:solidFill>
                  </a:tcPr>
                </a:tc>
              </a:tr>
              <a:tr h="735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9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480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 072,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 575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 575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кредито-ва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480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 898, 27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 408,24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 251,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 433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кредито-ва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480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 121,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 997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 913,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 888,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кредито-ва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2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480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1 776,9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0 466,7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 079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 904,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жидается в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. 2023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3"/>
          <p:cNvSpPr/>
          <p:nvPr/>
        </p:nvSpPr>
        <p:spPr>
          <a:xfrm>
            <a:off x="0" y="138240"/>
            <a:ext cx="7535880" cy="76968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1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otham Pro"/>
                <a:ea typeface="Gotham Pro"/>
              </a:rPr>
              <a:t>РЕАЛИЗАЦИЯ НАЦИОНАЛЬНОГО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https://pravitelstvorb.ru/upload/iblock/acf/acf297ae313e666fdf8e9ffcb6475de6.jpg"/>
          <p:cNvPicPr/>
          <p:nvPr/>
        </p:nvPicPr>
        <p:blipFill>
          <a:blip r:embed="rId1"/>
          <a:stretch/>
        </p:blipFill>
        <p:spPr>
          <a:xfrm>
            <a:off x="8832960" y="138240"/>
            <a:ext cx="2976480" cy="220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0" name=""/>
          <p:cNvGraphicFramePr/>
          <p:nvPr/>
        </p:nvGraphicFramePr>
        <p:xfrm>
          <a:off x="334800" y="3171960"/>
          <a:ext cx="11522160" cy="3570120"/>
        </p:xfrm>
        <a:graphic>
          <a:graphicData uri="http://schemas.openxmlformats.org/drawingml/2006/table">
            <a:tbl>
              <a:tblPr/>
              <a:tblGrid>
                <a:gridCol w="3962520"/>
                <a:gridCol w="2835360"/>
                <a:gridCol w="2281320"/>
                <a:gridCol w="2442960"/>
              </a:tblGrid>
              <a:tr h="631080"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каза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84807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лан на 2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84807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 на 01.07.2023 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84807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пол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84807"/>
                    </a:solidFill>
                  </a:tcPr>
                </a:tc>
              </a:tr>
              <a:tr h="412920">
                <a:tc gridSpan="4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оказатель рег. проекта «Лёгкий старт и комфортное ведение бизнеса»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0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оддержка начинающих предпринимате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 300,0 тыс.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0 139,27 тыс.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Годовые показатели выполнены на 154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 gridSpan="4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оказатели рег. проекта «Акселерация субъектов малого и среднего предпринимательств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584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Государственная поддерж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малого и средн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редпринимательства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20,5 тыс. 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41,29 тыс.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Годовые показатели выполнены на 15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Прямоугольник 6"/>
          <p:cNvSpPr/>
          <p:nvPr/>
        </p:nvSpPr>
        <p:spPr>
          <a:xfrm>
            <a:off x="316080" y="1125360"/>
            <a:ext cx="8948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84126"/>
                </a:solidFill>
                <a:latin typeface="Gotham Pro"/>
                <a:ea typeface="Arial"/>
              </a:rPr>
              <a:t>В рамках реализации национального проекта «Малое и среднее предпринимательство и поддержка индивидуальной предпринимательской инициативы», регионального проекта «Акселерация субъектов малого и среднего предпринимательства» в 2022 г. </a:t>
            </a:r>
            <a:r>
              <a:rPr b="1" lang="ru-RU" sz="2000" spc="-1" strike="noStrike">
                <a:solidFill>
                  <a:srgbClr val="c84126"/>
                </a:solidFill>
                <a:latin typeface="Gotham Pro"/>
                <a:ea typeface="Arial"/>
              </a:rPr>
              <a:t>профинансировано 150,3 млн. рублей на докапитализацию Гарантийного фонда Республики Ты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3"/>
          <p:cNvSpPr/>
          <p:nvPr/>
        </p:nvSpPr>
        <p:spPr>
          <a:xfrm>
            <a:off x="0" y="138240"/>
            <a:ext cx="7535880" cy="76968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1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otham Pro"/>
                <a:ea typeface="Gotham Pro"/>
              </a:rPr>
              <a:t>ПЛАН РАБОТЫ НА 202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7"/>
          <p:cNvSpPr/>
          <p:nvPr/>
        </p:nvSpPr>
        <p:spPr>
          <a:xfrm>
            <a:off x="3359160" y="1461960"/>
            <a:ext cx="448308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84126"/>
                </a:solidFill>
                <a:latin typeface="Gotham Pro"/>
              </a:rPr>
              <a:t>Гарантийный капит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84126"/>
                </a:solidFill>
                <a:latin typeface="Gotham Pro"/>
              </a:rPr>
              <a:t>299 059,86 млн.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9"/>
          <p:cNvSpPr/>
          <p:nvPr/>
        </p:nvSpPr>
        <p:spPr>
          <a:xfrm>
            <a:off x="6600960" y="3500280"/>
            <a:ext cx="460836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84126"/>
                </a:solidFill>
                <a:latin typeface="Gotham Pro"/>
              </a:rPr>
              <a:t>Операционный лимит 2023 г. 256 млн. руб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2"/>
          <p:cNvSpPr/>
          <p:nvPr/>
        </p:nvSpPr>
        <p:spPr>
          <a:xfrm>
            <a:off x="5159520" y="2492280"/>
            <a:ext cx="439236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84126"/>
                </a:solidFill>
                <a:latin typeface="Gotham Pro"/>
              </a:rPr>
              <a:t>Действующий портф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84126"/>
                </a:solidFill>
                <a:latin typeface="Gotham Pro"/>
              </a:rPr>
              <a:t>452 749,52 млн.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0"/>
          <p:cNvSpPr/>
          <p:nvPr/>
        </p:nvSpPr>
        <p:spPr>
          <a:xfrm>
            <a:off x="6743880" y="5038560"/>
            <a:ext cx="5113080" cy="1618560"/>
          </a:xfrm>
          <a:prstGeom prst="rect">
            <a:avLst/>
          </a:prstGeom>
          <a:solidFill>
            <a:srgbClr val="ffffff"/>
          </a:solidFill>
          <a:ln w="3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84126"/>
                </a:solidFill>
                <a:latin typeface="Gotham Pro"/>
              </a:rPr>
              <a:t>В целях поддержки субъектов МСП при заключении сделок применяется </a:t>
            </a:r>
            <a:r>
              <a:rPr b="1" lang="ru-RU" sz="2000" spc="-1" strike="noStrike">
                <a:solidFill>
                  <a:srgbClr val="c84126"/>
                </a:solidFill>
                <a:latin typeface="Gotham Pro"/>
              </a:rPr>
              <a:t>минимальная ставка </a:t>
            </a:r>
            <a:r>
              <a:rPr b="0" lang="ru-RU" sz="2000" spc="-1" strike="noStrike">
                <a:solidFill>
                  <a:srgbClr val="c84126"/>
                </a:solidFill>
                <a:latin typeface="Gotham Pro"/>
              </a:rPr>
              <a:t>комиссионного вознаграждения – </a:t>
            </a:r>
            <a:r>
              <a:rPr b="1" lang="ru-RU" sz="2000" spc="-1" strike="noStrike">
                <a:solidFill>
                  <a:srgbClr val="c84126"/>
                </a:solidFill>
                <a:latin typeface="Gotham Pro"/>
              </a:rPr>
              <a:t>0,5% от суммы предоставленного поручи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3"/>
          <p:cNvSpPr/>
          <p:nvPr/>
        </p:nvSpPr>
        <p:spPr>
          <a:xfrm>
            <a:off x="133200" y="3751200"/>
            <a:ext cx="609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84126"/>
                </a:solidFill>
                <a:latin typeface="Gotham Pro"/>
              </a:rPr>
              <a:t>Планируемые меро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84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84126"/>
                </a:solidFill>
                <a:latin typeface="Gotham Pro"/>
              </a:rPr>
              <a:t>Выездные мероприятия совместно с партнерами в муниципальных образованиях Республики Ты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84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84126"/>
                </a:solidFill>
                <a:latin typeface="Gotham Pro"/>
              </a:rPr>
              <a:t>Работа с общественными организац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84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84126"/>
                </a:solidFill>
                <a:latin typeface="Gotham Pro"/>
              </a:rPr>
              <a:t>Информирование СМСП через СМИ и соцсе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84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84126"/>
                </a:solidFill>
                <a:latin typeface="Gotham Pro"/>
              </a:rPr>
              <a:t>Заключение соглашений о сотрудничеств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84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84126"/>
                </a:solidFill>
                <a:latin typeface="Gotham Pro"/>
              </a:rPr>
              <a:t>Лизинговые комп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7" descr=""/>
          <p:cNvPicPr/>
          <p:nvPr/>
        </p:nvPicPr>
        <p:blipFill>
          <a:blip r:embed="rId1"/>
          <a:stretch/>
        </p:blipFill>
        <p:spPr>
          <a:xfrm>
            <a:off x="7745400" y="44280"/>
            <a:ext cx="4398840" cy="16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0"/>
          <p:cNvSpPr/>
          <p:nvPr/>
        </p:nvSpPr>
        <p:spPr>
          <a:xfrm>
            <a:off x="0" y="357120"/>
            <a:ext cx="6005520" cy="101772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1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otham Pro"/>
                <a:ea typeface="Gotham Pro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1" descr=""/>
          <p:cNvPicPr/>
          <p:nvPr/>
        </p:nvPicPr>
        <p:blipFill>
          <a:blip r:embed="rId1"/>
          <a:stretch/>
        </p:blipFill>
        <p:spPr>
          <a:xfrm>
            <a:off x="0" y="1773360"/>
            <a:ext cx="121921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6"/>
          <p:cNvSpPr/>
          <p:nvPr/>
        </p:nvSpPr>
        <p:spPr>
          <a:xfrm>
            <a:off x="334800" y="630360"/>
            <a:ext cx="11522160" cy="76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c84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c84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84126"/>
                </a:solidFill>
                <a:latin typeface="Times New Roman"/>
                <a:ea typeface="Times New Roman"/>
              </a:rPr>
              <a:t>Гарантийный фонд Республики Тыва, зарегистрирован в ЕГРЮЛ </a:t>
            </a:r>
            <a:r>
              <a:rPr b="1" lang="ru-RU" sz="2200" spc="-1" strike="noStrike">
                <a:solidFill>
                  <a:srgbClr val="c84126"/>
                </a:solidFill>
                <a:latin typeface="Times New Roman"/>
                <a:ea typeface="Times New Roman"/>
              </a:rPr>
              <a:t>«18» июня 2018 года</a:t>
            </a:r>
            <a:r>
              <a:rPr b="0" lang="ru-RU" sz="2200" spc="-1" strike="noStrike">
                <a:solidFill>
                  <a:srgbClr val="c84126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c84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84126"/>
                </a:solidFill>
                <a:latin typeface="Times New Roman"/>
                <a:ea typeface="Times New Roman"/>
              </a:rPr>
              <a:t>Гарантийный фонд Республики Тыва создан в соответствии </a:t>
            </a:r>
            <a:r>
              <a:rPr b="1" lang="ru-RU" sz="2200" spc="-1" strike="noStrike">
                <a:solidFill>
                  <a:srgbClr val="c84126"/>
                </a:solidFill>
                <a:latin typeface="Times New Roman"/>
                <a:ea typeface="Times New Roman"/>
              </a:rPr>
              <a:t>с постановлением Правительства Республики Тыва от 27 апреля 2018 г. № 228</a:t>
            </a:r>
            <a:r>
              <a:rPr b="0" lang="ru-RU" sz="2200" spc="-1" strike="noStrike">
                <a:solidFill>
                  <a:srgbClr val="c84126"/>
                </a:solidFill>
                <a:latin typeface="Times New Roman"/>
                <a:ea typeface="Times New Roman"/>
              </a:rPr>
              <a:t> «О создании Гарантийного фонда Республики Тыва и внесении изменений в Устав микрокредитной компании Фонд поддержки предпринимательства Республики Тыва (в редакции постановления Правительства Республики Тыва от 7 июня 2018 г. №297 «О внесении изменений в постановление Правительства Республики Тыва от 27 апреля 2018 г. №228») без ограничения срока деятель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c84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84126"/>
                </a:solidFill>
                <a:latin typeface="Times New Roman"/>
                <a:ea typeface="Times New Roman"/>
              </a:rPr>
              <a:t>Учредителем Фонда является </a:t>
            </a:r>
            <a:r>
              <a:rPr b="1" lang="ru-RU" sz="2200" spc="-1" strike="noStrike">
                <a:solidFill>
                  <a:srgbClr val="c84126"/>
                </a:solidFill>
                <a:latin typeface="Times New Roman"/>
                <a:ea typeface="Times New Roman"/>
              </a:rPr>
              <a:t>Министерство экономического развития и промышленности Республики Тыва</a:t>
            </a:r>
            <a:r>
              <a:rPr b="0" lang="ru-RU" sz="2200" spc="-1" strike="noStrike">
                <a:solidFill>
                  <a:srgbClr val="c84126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c84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84126"/>
                </a:solidFill>
                <a:latin typeface="Times New Roman"/>
                <a:ea typeface="Times New Roman"/>
              </a:rPr>
              <a:t>Гарантийный фонд Республики Тыва - </a:t>
            </a:r>
            <a:r>
              <a:rPr b="1" lang="ru-RU" sz="2200" spc="-1" strike="noStrike">
                <a:solidFill>
                  <a:srgbClr val="c84126"/>
                </a:solidFill>
                <a:latin typeface="Times New Roman"/>
                <a:ea typeface="Times New Roman"/>
              </a:rPr>
              <a:t>унитарная некоммерческая организация</a:t>
            </a:r>
            <a:r>
              <a:rPr b="0" lang="ru-RU" sz="2200" spc="-1" strike="noStrike">
                <a:solidFill>
                  <a:srgbClr val="c84126"/>
                </a:solidFill>
                <a:latin typeface="Times New Roman"/>
                <a:ea typeface="Times New Roman"/>
              </a:rPr>
              <a:t>, созданная в организационно-правовой форме фонда и в целях, предусмотренных Устав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c84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84126"/>
                </a:solidFill>
                <a:latin typeface="Times New Roman"/>
                <a:ea typeface="Times New Roman"/>
              </a:rPr>
              <a:t>Дата получения аккредитации в АО «Корпорации МСП» – </a:t>
            </a:r>
            <a:r>
              <a:rPr b="1" lang="ru-RU" sz="2200" spc="-1" strike="noStrike">
                <a:solidFill>
                  <a:srgbClr val="c84126"/>
                </a:solidFill>
                <a:latin typeface="Times New Roman"/>
                <a:ea typeface="Times New Roman"/>
              </a:rPr>
              <a:t>19 сентября 2019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84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0" y="138240"/>
            <a:ext cx="7535880" cy="76968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1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otham Pro"/>
                <a:ea typeface="Gotham Pro"/>
              </a:rPr>
              <a:t>ГАРАНТИЙНЫЙ ФОНД РЕСПУБЛИКИ ТЫ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6"/>
          <p:cNvSpPr/>
          <p:nvPr/>
        </p:nvSpPr>
        <p:spPr>
          <a:xfrm>
            <a:off x="334800" y="630360"/>
            <a:ext cx="11522160" cy="73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c84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84126"/>
                </a:solidFill>
                <a:latin typeface="Times New Roman"/>
                <a:ea typeface="Times New Roman"/>
              </a:rPr>
              <a:t>Цель деятельности Фонд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c84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84126"/>
                </a:solidFill>
                <a:latin typeface="Times New Roman"/>
                <a:ea typeface="Times New Roman"/>
              </a:rPr>
              <a:t>обеспечение и расширение доступа субъектов МСП Республики Тыва, физических лиц, применяющий специальный налоговый режим «Налог на профессиональный доход» (самозанятых граждан) и (или) организаций, образующих инфраструктуру поддержки субъектов малого и среднего предпринимательства Республики Тыва к кредитным и иным финансовым ресурс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c84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84126"/>
                </a:solidFill>
                <a:latin typeface="Times New Roman"/>
                <a:ea typeface="Times New Roman"/>
              </a:rPr>
              <a:t>развитие системы поручительств и независимых гарантий основанным на кредитных договорах, договорах займа, договорах финансовой аренды (лизинга), договорах о предоставлении банковской гарантии и иных договорах, обязательствам субъектов МСП Республики Тыва, самозанятых граждан и (или) организаций, образующих инфраструктуру поддержки субъектов малого и среднего предпринимательства Республики Ты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84126"/>
                </a:solidFill>
                <a:latin typeface="Times New Roman"/>
                <a:ea typeface="Times New Roman"/>
              </a:rPr>
              <a:t>Основным направлением деятельности Фонда является оказание финансовой поддержки субъектам малого и среднего предпринимательства Республики Тыва, а именно </a:t>
            </a:r>
            <a:r>
              <a:rPr b="1" lang="ru-RU" sz="2400" spc="-1" strike="noStrike" u="sng">
                <a:solidFill>
                  <a:srgbClr val="c84126"/>
                </a:solidFill>
                <a:uFillTx/>
                <a:latin typeface="Times New Roman"/>
                <a:ea typeface="Times New Roman"/>
              </a:rPr>
              <a:t>предоставление поручительств по кредитам и займам, полученным субъектами МСП в финансовых организац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c84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0" y="138240"/>
            <a:ext cx="7535880" cy="76968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1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otham Pro"/>
                <a:ea typeface="Gotham Pro"/>
              </a:rPr>
              <a:t>ГАРАНТИЙНЫЙ ФОНД РЕСПУБЛИКИ ТЫ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5"/>
          <p:cNvSpPr/>
          <p:nvPr/>
        </p:nvSpPr>
        <p:spPr>
          <a:xfrm>
            <a:off x="0" y="357120"/>
            <a:ext cx="7104240" cy="69552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1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otham Pro"/>
                <a:ea typeface="Gotham Pro"/>
              </a:rPr>
              <a:t>ПАРТН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6" descr=""/>
          <p:cNvPicPr/>
          <p:nvPr/>
        </p:nvPicPr>
        <p:blipFill>
          <a:blip r:embed="rId1"/>
          <a:stretch/>
        </p:blipFill>
        <p:spPr>
          <a:xfrm>
            <a:off x="7104240" y="0"/>
            <a:ext cx="5016240" cy="194472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1"/>
          <p:cNvSpPr/>
          <p:nvPr/>
        </p:nvSpPr>
        <p:spPr>
          <a:xfrm>
            <a:off x="623880" y="1557360"/>
            <a:ext cx="1108872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"/>
              </a:rPr>
              <a:t>БА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84126"/>
                </a:solidFill>
                <a:latin typeface="Century"/>
              </a:rPr>
              <a:t></a:t>
            </a:r>
            <a:r>
              <a:rPr b="1" lang="ru-RU" sz="2000" spc="-1" strike="noStrike">
                <a:solidFill>
                  <a:srgbClr val="254061"/>
                </a:solidFill>
                <a:latin typeface="Century"/>
              </a:rPr>
              <a:t>	</a:t>
            </a:r>
            <a:r>
              <a:rPr b="1" lang="ru-RU" sz="2000" spc="-1" strike="noStrike">
                <a:solidFill>
                  <a:srgbClr val="c84126"/>
                </a:solidFill>
                <a:latin typeface="Century"/>
              </a:rPr>
              <a:t>АО «МСП Бан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84126"/>
                </a:solidFill>
                <a:latin typeface="Century"/>
              </a:rPr>
              <a:t></a:t>
            </a:r>
            <a:r>
              <a:rPr b="1" lang="ru-RU" sz="2000" spc="-1" strike="noStrike">
                <a:solidFill>
                  <a:srgbClr val="c84126"/>
                </a:solidFill>
                <a:latin typeface="Century"/>
              </a:rPr>
              <a:t>	</a:t>
            </a:r>
            <a:r>
              <a:rPr b="1" lang="ru-RU" sz="2000" spc="-1" strike="noStrike">
                <a:solidFill>
                  <a:srgbClr val="c84126"/>
                </a:solidFill>
                <a:latin typeface="Century"/>
              </a:rPr>
              <a:t>ТРФ АО «Россельхозбан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84126"/>
                </a:solidFill>
                <a:latin typeface="Century"/>
              </a:rPr>
              <a:t></a:t>
            </a:r>
            <a:r>
              <a:rPr b="1" lang="ru-RU" sz="2000" spc="-1" strike="noStrike">
                <a:solidFill>
                  <a:srgbClr val="c84126"/>
                </a:solidFill>
                <a:latin typeface="Century"/>
              </a:rPr>
              <a:t>	</a:t>
            </a:r>
            <a:r>
              <a:rPr b="1" lang="ru-RU" sz="2000" spc="-1" strike="noStrike">
                <a:solidFill>
                  <a:srgbClr val="c84126"/>
                </a:solidFill>
                <a:latin typeface="Century"/>
              </a:rPr>
              <a:t>ПАО Сбербан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84126"/>
                </a:solidFill>
                <a:latin typeface="Century"/>
              </a:rPr>
              <a:t></a:t>
            </a:r>
            <a:r>
              <a:rPr b="1" lang="ru-RU" sz="2000" spc="-1" strike="noStrike">
                <a:solidFill>
                  <a:srgbClr val="c84126"/>
                </a:solidFill>
                <a:latin typeface="Century"/>
              </a:rPr>
              <a:t>	</a:t>
            </a:r>
            <a:r>
              <a:rPr b="1" lang="ru-RU" sz="2000" spc="-1" strike="noStrike">
                <a:solidFill>
                  <a:srgbClr val="c84126"/>
                </a:solidFill>
                <a:latin typeface="Century"/>
              </a:rPr>
              <a:t>ПАО «Промсвязьбан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"/>
              </a:rPr>
              <a:t>ФОН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84126"/>
                </a:solidFill>
                <a:latin typeface="Century"/>
              </a:rPr>
              <a:t></a:t>
            </a:r>
            <a:r>
              <a:rPr b="1" lang="ru-RU" sz="2000" spc="-1" strike="noStrike">
                <a:solidFill>
                  <a:srgbClr val="254061"/>
                </a:solidFill>
                <a:latin typeface="Century"/>
              </a:rPr>
              <a:t>	</a:t>
            </a:r>
            <a:r>
              <a:rPr b="1" lang="ru-RU" sz="2000" spc="-1" strike="noStrike">
                <a:solidFill>
                  <a:srgbClr val="c84126"/>
                </a:solidFill>
                <a:latin typeface="Century"/>
              </a:rPr>
              <a:t>МКК ФПП РТ (Фонд поддержки предпринимательства Р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84126"/>
                </a:solidFill>
                <a:latin typeface="Century"/>
              </a:rPr>
              <a:t></a:t>
            </a:r>
            <a:r>
              <a:rPr b="1" lang="ru-RU" sz="2000" spc="-1" strike="noStrike">
                <a:solidFill>
                  <a:srgbClr val="c84126"/>
                </a:solidFill>
                <a:latin typeface="Century"/>
              </a:rPr>
              <a:t>	</a:t>
            </a:r>
            <a:r>
              <a:rPr b="1" lang="ru-RU" sz="2000" spc="-1" strike="noStrike">
                <a:solidFill>
                  <a:srgbClr val="c84126"/>
                </a:solidFill>
                <a:latin typeface="Century"/>
              </a:rPr>
              <a:t>НО ФРФБ и СК РТ (Фонд развития фермерского бизнеса Р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84126"/>
                </a:solidFill>
                <a:latin typeface="Century"/>
              </a:rPr>
              <a:t></a:t>
            </a:r>
            <a:r>
              <a:rPr b="1" lang="en-US" sz="2000" spc="-1" strike="noStrike">
                <a:solidFill>
                  <a:srgbClr val="c84126"/>
                </a:solidFill>
                <a:latin typeface="Century"/>
              </a:rPr>
              <a:t>	</a:t>
            </a:r>
            <a:r>
              <a:rPr b="1" lang="ru-RU" sz="2000" spc="-1" strike="noStrike">
                <a:solidFill>
                  <a:srgbClr val="c84126"/>
                </a:solidFill>
                <a:latin typeface="Century"/>
              </a:rPr>
              <a:t>НКО Фонд развития 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"/>
              </a:rPr>
              <a:t>ЛИЗИНГОВЫЕ КОМП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84126"/>
                </a:solidFill>
                <a:latin typeface="Century"/>
              </a:rPr>
              <a:t></a:t>
            </a:r>
            <a:r>
              <a:rPr b="1" lang="ru-RU" sz="2000" spc="-1" strike="noStrike">
                <a:solidFill>
                  <a:srgbClr val="254061"/>
                </a:solidFill>
                <a:latin typeface="Century"/>
              </a:rPr>
              <a:t>	</a:t>
            </a:r>
            <a:r>
              <a:rPr b="1" lang="ru-RU" sz="2000" spc="-1" strike="noStrike">
                <a:solidFill>
                  <a:srgbClr val="c84126"/>
                </a:solidFill>
                <a:latin typeface="Century"/>
              </a:rPr>
              <a:t>РЛК Республики Татарс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84126"/>
                </a:solidFill>
                <a:latin typeface="Century"/>
              </a:rPr>
              <a:t></a:t>
            </a:r>
            <a:r>
              <a:rPr b="1" lang="ru-RU" sz="2000" spc="-1" strike="noStrike">
                <a:solidFill>
                  <a:srgbClr val="c84126"/>
                </a:solidFill>
                <a:latin typeface="Century"/>
              </a:rPr>
              <a:t>	</a:t>
            </a:r>
            <a:r>
              <a:rPr b="1" lang="ru-RU" sz="2000" spc="-1" strike="noStrike">
                <a:solidFill>
                  <a:srgbClr val="c84126"/>
                </a:solidFill>
                <a:latin typeface="Century"/>
              </a:rPr>
              <a:t>РЛК Республики Башкортос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0"/>
          <p:cNvSpPr/>
          <p:nvPr/>
        </p:nvSpPr>
        <p:spPr>
          <a:xfrm>
            <a:off x="0" y="108000"/>
            <a:ext cx="5519880" cy="58428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1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otham Pro"/>
                <a:ea typeface="Gotham Pro"/>
              </a:rPr>
              <a:t>Программы Фон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6"/>
          <p:cNvSpPr/>
          <p:nvPr/>
        </p:nvSpPr>
        <p:spPr>
          <a:xfrm>
            <a:off x="334800" y="630360"/>
            <a:ext cx="11522160" cy="73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84126"/>
                </a:solidFill>
                <a:latin typeface="Century"/>
                <a:ea typeface="Arial"/>
              </a:rPr>
              <a:t>на 1 заемщика – до 25 млн. руб</a:t>
            </a:r>
            <a:r>
              <a:rPr b="1" lang="ru-RU" sz="2000" spc="-1" strike="noStrike">
                <a:solidFill>
                  <a:srgbClr val="c84126"/>
                </a:solidFill>
                <a:latin typeface="Century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84126"/>
                </a:solidFill>
                <a:latin typeface="Century"/>
                <a:ea typeface="Arial"/>
              </a:rPr>
              <a:t>Стоимость поручительства - от 0,5% до 3% годовых от суммы поручи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a431e"/>
                </a:solidFill>
                <a:latin typeface="Century"/>
                <a:ea typeface="Arial"/>
              </a:rPr>
              <a:t>Совместно с АО «Корпорация «МСП» и АО «МСП Бан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a431e"/>
                </a:solidFill>
                <a:latin typeface="Century"/>
                <a:ea typeface="Arial"/>
              </a:rPr>
              <a:t>До 70% </a:t>
            </a:r>
            <a:r>
              <a:rPr b="0" lang="ru-RU" sz="1800" spc="-1" strike="noStrike">
                <a:solidFill>
                  <a:srgbClr val="aa431e"/>
                </a:solidFill>
                <a:latin typeface="Century"/>
                <a:ea typeface="Arial"/>
              </a:rPr>
              <a:t>- по продукту  «Согарантия» для всех  субъектов МСП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a431e"/>
                </a:solidFill>
                <a:latin typeface="Century"/>
                <a:ea typeface="Arial"/>
              </a:rPr>
              <a:t>Стоимость поручительства – 0,75%  годовых от суммы поручи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6228"/>
                </a:solidFill>
                <a:latin typeface="Century"/>
                <a:ea typeface="Arial"/>
              </a:rPr>
              <a:t>Совместно с ТРФ АО «Россельхозбан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6228"/>
                </a:solidFill>
                <a:latin typeface="Century"/>
                <a:ea typeface="Arial"/>
              </a:rPr>
              <a:t>До 50% </a:t>
            </a:r>
            <a:r>
              <a:rPr b="0" lang="ru-RU" sz="1600" spc="-1" strike="noStrike">
                <a:solidFill>
                  <a:srgbClr val="4f6228"/>
                </a:solidFill>
                <a:latin typeface="Century"/>
                <a:ea typeface="Arial"/>
              </a:rPr>
              <a:t>(Соглашение о сотрудничестве от 07 ноября 2019 г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f6228"/>
                </a:solidFill>
                <a:latin typeface="Century"/>
                <a:ea typeface="Arial"/>
              </a:rPr>
              <a:t>Любой фермер, участники агростартапа, участники семейных ферм, тысячники. СПК, СП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6228"/>
                </a:solidFill>
                <a:latin typeface="Century"/>
                <a:ea typeface="Arial"/>
              </a:rPr>
              <a:t>Стоимость поручительства – 0,5% годовых от суммы поручи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3"/>
          <p:cNvSpPr/>
          <p:nvPr/>
        </p:nvSpPr>
        <p:spPr>
          <a:xfrm>
            <a:off x="2193840" y="969840"/>
            <a:ext cx="8136000" cy="362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76092"/>
                </a:solidFill>
                <a:latin typeface="Century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2352600" y="981000"/>
            <a:ext cx="74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84126"/>
                </a:solidFill>
                <a:latin typeface="Century"/>
                <a:ea typeface="Arial"/>
              </a:rPr>
              <a:t>Поручительство по кредитам, займам и лизин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5"/>
          <p:cNvSpPr/>
          <p:nvPr/>
        </p:nvSpPr>
        <p:spPr>
          <a:xfrm>
            <a:off x="2351160" y="1900080"/>
            <a:ext cx="2376360" cy="952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84126"/>
                </a:solidFill>
                <a:latin typeface="Century"/>
              </a:rPr>
              <a:t>до 5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84126"/>
                </a:solidFill>
                <a:latin typeface="Century"/>
              </a:rPr>
              <a:t>самозанят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84126"/>
                </a:solidFill>
                <a:latin typeface="Century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"/>
          <p:cNvSpPr/>
          <p:nvPr/>
        </p:nvSpPr>
        <p:spPr>
          <a:xfrm>
            <a:off x="7751880" y="1936800"/>
            <a:ext cx="2376360" cy="915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84126"/>
                </a:solidFill>
                <a:latin typeface="Century"/>
              </a:rPr>
              <a:t>до 7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84126"/>
                </a:solidFill>
                <a:latin typeface="Century"/>
              </a:rPr>
              <a:t>для всех субъектов МС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84126"/>
                </a:solidFill>
                <a:latin typeface="Century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5"/>
          <p:cNvSpPr/>
          <p:nvPr/>
        </p:nvSpPr>
        <p:spPr>
          <a:xfrm>
            <a:off x="0" y="357120"/>
            <a:ext cx="7175520" cy="91116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1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otham Pro"/>
                <a:ea typeface="Gotham Pro"/>
              </a:rPr>
              <a:t>Итоги деятельности РГО по состоянию на 1 июля 2023 г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6" descr=""/>
          <p:cNvPicPr/>
          <p:nvPr/>
        </p:nvPicPr>
        <p:blipFill>
          <a:blip r:embed="rId1"/>
          <a:stretch/>
        </p:blipFill>
        <p:spPr>
          <a:xfrm>
            <a:off x="7104240" y="189000"/>
            <a:ext cx="4878360" cy="185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263520" y="1592280"/>
          <a:ext cx="11593440" cy="5149800"/>
        </p:xfrm>
        <a:graphic>
          <a:graphicData uri="http://schemas.openxmlformats.org/drawingml/2006/table">
            <a:tbl>
              <a:tblPr/>
              <a:tblGrid>
                <a:gridCol w="211320"/>
                <a:gridCol w="2884320"/>
                <a:gridCol w="1873080"/>
                <a:gridCol w="1584360"/>
                <a:gridCol w="1582920"/>
                <a:gridCol w="1657440"/>
                <a:gridCol w="1800000"/>
              </a:tblGrid>
              <a:tr h="585720">
                <a:tc>
                  <a:txBody>
                    <a:bodyPr lIns="59760" rIns="59760" tIns="828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4807"/>
                    </a:solidFill>
                  </a:tcPr>
                </a:tc>
                <a:tc>
                  <a:txBody>
                    <a:bodyPr lIns="59760" rIns="59760" tIns="8280" bIns="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4807"/>
                    </a:solidFill>
                  </a:tcPr>
                </a:tc>
                <a:tc>
                  <a:txBody>
                    <a:bodyPr lIns="59760" rIns="59760" tIns="8280" bIns="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9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4807"/>
                    </a:solidFill>
                  </a:tcPr>
                </a:tc>
                <a:tc>
                  <a:txBody>
                    <a:bodyPr lIns="59760" rIns="59760" tIns="8280" bIns="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4807"/>
                    </a:solidFill>
                  </a:tcPr>
                </a:tc>
                <a:tc>
                  <a:txBody>
                    <a:bodyPr lIns="59760" rIns="59760" tIns="8280" bIns="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4807"/>
                    </a:solidFill>
                  </a:tcPr>
                </a:tc>
                <a:tc>
                  <a:txBody>
                    <a:bodyPr lIns="59760" rIns="59760" tIns="8280" bIns="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2 г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480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 01.07.2023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4807"/>
                    </a:solidFill>
                  </a:tcPr>
                </a:tc>
              </a:tr>
              <a:tr h="488880">
                <a:tc>
                  <a:txBody>
                    <a:bodyPr lIns="59760" rIns="59760" tIns="828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8280" bIns="0" anchor="ctr">
                      <a:noAutofit/>
                    </a:bodyPr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итализация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8280" bIns="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072 755,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8280" bIns="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 898 276,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8280" bIns="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 121 827,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8280" bIns="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1 776 987,9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 059 858,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59760" rIns="59760" tIns="828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8280" bIns="0" anchor="ctr">
                      <a:noAutofit/>
                    </a:bodyPr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дано поручитель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8280" bIns="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8280" bIns="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8280" bIns="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8280" bIns="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4640">
                <a:tc>
                  <a:txBody>
                    <a:bodyPr lIns="59760" rIns="59760" tIns="828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8280" bIns="0" anchor="ctr">
                      <a:noAutofit/>
                    </a:bodyPr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 выданных поручительств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8280" bIns="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57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8280" bIns="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 433 2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8280" bIns="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 888 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8280" bIns="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 904 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 462 776,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0480">
                <a:tc>
                  <a:txBody>
                    <a:bodyPr lIns="59760" rIns="59760" tIns="828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8280" bIns="0" anchor="ctr">
                      <a:noAutofit/>
                    </a:bodyPr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финансирования, привлеченного под поручительства РГО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8280" bIns="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 95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8280" bIns="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5 54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8280" bIns="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3 997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8280" bIns="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1 952 130,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2 120 2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7520">
                <a:tc>
                  <a:txBody>
                    <a:bodyPr lIns="59760" rIns="59760" tIns="828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8280" bIns="0" anchor="ctr">
                      <a:noAutofit/>
                    </a:bodyPr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ующий портфель поручительств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8280" bIns="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575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8280" bIns="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 408 2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8280" bIns="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 846 6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8280" bIns="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0 466 7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2 749 519,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92040">
                <a:tc>
                  <a:txBody>
                    <a:bodyPr lIns="59760" rIns="59760" tIns="8280" bIns="0" anchor="t">
                      <a:noAutofit/>
                    </a:bodyPr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8280" bIns="0" anchor="ctr">
                      <a:noAutofit/>
                    </a:bodyPr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действующего портфеля выданных поручительств к капитализации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8280" bIns="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8280" bIns="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8280" bIns="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760" rIns="59760" tIns="8280" bIns="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5"/>
          <p:cNvSpPr/>
          <p:nvPr/>
        </p:nvSpPr>
        <p:spPr>
          <a:xfrm>
            <a:off x="0" y="227160"/>
            <a:ext cx="8904240" cy="82548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1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otham Pro"/>
                <a:ea typeface="Gotham Pro"/>
              </a:rPr>
              <a:t>Структура кредитов по отраслям на 1 июля 2023 г</a:t>
            </a:r>
            <a:r>
              <a:rPr b="1" lang="ru-RU" sz="2800" spc="-1" strike="noStrike">
                <a:solidFill>
                  <a:srgbClr val="ffffff"/>
                </a:solidFill>
                <a:latin typeface="Gotham Pro"/>
                <a:ea typeface="Gotham Pro"/>
              </a:rPr>
              <a:t>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Диаграмма 4" descr=""/>
          <p:cNvPicPr/>
          <p:nvPr/>
        </p:nvPicPr>
        <p:blipFill>
          <a:blip r:embed="rId1"/>
          <a:stretch/>
        </p:blipFill>
        <p:spPr>
          <a:xfrm>
            <a:off x="5303880" y="1359000"/>
            <a:ext cx="6570720" cy="502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192240" y="1413000"/>
          <a:ext cx="4897440" cy="4824360"/>
        </p:xfrm>
        <a:graphic>
          <a:graphicData uri="http://schemas.openxmlformats.org/drawingml/2006/table">
            <a:tbl>
              <a:tblPr/>
              <a:tblGrid>
                <a:gridCol w="285480"/>
                <a:gridCol w="2332080"/>
                <a:gridCol w="1149480"/>
                <a:gridCol w="1130400"/>
              </a:tblGrid>
              <a:tr h="6602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84807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руктура кредитов по отрасля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84807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ыс.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84807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ля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84807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зничная торгов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551,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итель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 6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лу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067,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извод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293,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луги по перевоз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76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480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рен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25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060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луги парикмахера и косметоло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64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6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льское хозяй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11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40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товая торгов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412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ственное пит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 462,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334800" y="1052640"/>
          <a:ext cx="5473800" cy="5184720"/>
        </p:xfrm>
        <a:graphic>
          <a:graphicData uri="http://schemas.openxmlformats.org/drawingml/2006/table">
            <a:tbl>
              <a:tblPr/>
              <a:tblGrid>
                <a:gridCol w="684360"/>
                <a:gridCol w="1779480"/>
                <a:gridCol w="1573200"/>
                <a:gridCol w="1436760"/>
              </a:tblGrid>
              <a:tr h="143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98480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руктура кредитов по сумме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лн.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98480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ыс.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98480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ля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984807"/>
                    </a:solidFill>
                  </a:tcPr>
                </a:tc>
              </a:tr>
              <a:tr h="438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 1 мл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281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1 до 3 мл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 158,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3 до 5 мл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 175,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5 до 10 мл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847,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 10 и вы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: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 462,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Прямоугольник 7"/>
          <p:cNvSpPr/>
          <p:nvPr/>
        </p:nvSpPr>
        <p:spPr>
          <a:xfrm>
            <a:off x="0" y="227160"/>
            <a:ext cx="7391520" cy="52848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1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otham Pro"/>
                <a:ea typeface="Gotham Pro"/>
              </a:rPr>
              <a:t>Структура кредитов по сум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Диаграмма 4" descr=""/>
          <p:cNvPicPr/>
          <p:nvPr/>
        </p:nvPicPr>
        <p:blipFill>
          <a:blip r:embed="rId1"/>
          <a:stretch/>
        </p:blipFill>
        <p:spPr>
          <a:xfrm>
            <a:off x="6168960" y="1054080"/>
            <a:ext cx="5614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7"/>
          <p:cNvSpPr/>
          <p:nvPr/>
        </p:nvSpPr>
        <p:spPr>
          <a:xfrm>
            <a:off x="0" y="357120"/>
            <a:ext cx="6024600" cy="768240"/>
          </a:xfrm>
          <a:prstGeom prst="rect">
            <a:avLst/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1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otham Pro"/>
                <a:ea typeface="Gotham Pro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otham Pro"/>
                <a:ea typeface="Gotham Pro"/>
              </a:rPr>
              <a:t>СВОД ПО РАЙОН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19160" y="1197000"/>
          <a:ext cx="4248000" cy="5519880"/>
        </p:xfrm>
        <a:graphic>
          <a:graphicData uri="http://schemas.openxmlformats.org/drawingml/2006/table">
            <a:tbl>
              <a:tblPr/>
              <a:tblGrid>
                <a:gridCol w="2566800"/>
                <a:gridCol w="1681200"/>
              </a:tblGrid>
              <a:tr h="4968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униципальное образ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8480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умма кредита, ты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84807"/>
                    </a:solidFill>
                  </a:tcPr>
                </a:tc>
              </a:tr>
              <a:tr h="265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. Кызы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 928,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3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зун-Хемчик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 65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4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ндин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76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3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ызыл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285,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4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. Ак-Довур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75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3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й-Тайгин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71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5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аа-Холь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5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3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луг-Хем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97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4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джин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7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3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ий-Хем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25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5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рун-Хемчикс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762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3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ди-Холь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4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вюр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3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т-Холь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6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5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нгун-Тайгин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3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а-Хем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4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с-Хем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3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рзинский 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5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ре-Хольский р-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3" name="Диаграмма 5"/>
          <p:cNvGraphicFramePr/>
          <p:nvPr/>
        </p:nvGraphicFramePr>
        <p:xfrm>
          <a:off x="4892760" y="1146240"/>
          <a:ext cx="6870600" cy="562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Диаграмма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92760" y="1146240"/>
                    <a:ext cx="6870600" cy="562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9T11:03:47Z</dcterms:created>
  <dc:creator>User</dc:creator>
  <dc:description/>
  <dc:language>en-US</dc:language>
  <cp:lastModifiedBy>ГФ</cp:lastModifiedBy>
  <cp:lastPrinted>2022-01-12T08:27:21Z</cp:lastPrinted>
  <dcterms:modified xsi:type="dcterms:W3CDTF">2023-07-24T11:06:57Z</dcterms:modified>
  <cp:revision>504</cp:revision>
  <dc:subject/>
  <dc:title>Презентация PowerPoint</dc:title>
</cp:coreProperties>
</file>